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A75-D5B1-46A5-8B62-55B807AF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707-9027-48AD-8504-5B6BA790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2F4-3382-466A-952A-EDAD5461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F28-1E3F-4F92-A45C-060D8BE4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251-4A76-4F06-B556-43ABBF59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763-EC58-45F3-B519-683AE87E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AD1-DF01-4574-BBD8-8179E4C9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80E-68E8-406A-87CA-7C748AAB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AE4-C36D-4E93-AEC8-0194DA62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02B-CED7-4B8D-8556-8DE78B11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AE5-DDB0-4D4A-80FB-E73FAB57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3A8-199D-4F21-AD5D-56377C7F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B67B-705D-4444-8C97-A2CD99903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br>
              <a:rPr sz="60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9 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251460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5345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the pa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=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=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=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=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24000" y="1219320"/>
            <a:ext cx="394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ter membr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6640" y="3276720"/>
            <a:ext cx="57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ner membrane (crista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23623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ntermembrane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3078" t="0" r="10628" b="0"/>
          <a:stretch/>
        </p:blipFill>
        <p:spPr>
          <a:xfrm>
            <a:off x="5334120" y="228600"/>
            <a:ext cx="3429000" cy="318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73760" y="4495680"/>
            <a:ext cx="16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54680" y="0"/>
            <a:ext cx="394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  <a:ea typeface="Arial"/>
              </a:rPr>
              <a:t>©</a:t>
            </a: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Pearson Education Inc; Publishing as Pearson Prentice Hall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17040" y="304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9720" y="548640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ytopla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the chemical equation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ctic acid fer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810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yruvic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+ NADH  →  lactic acid +  NAD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9400" y="3247920"/>
            <a:ext cx="800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fter glycolysis, which pathway w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yruvic acid follow if oxygen is pres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724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t will enter the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the 3 stages of cellular respi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1 =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 =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 =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0560" y="1295280"/>
            <a:ext cx="224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lyco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9051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3480" y="2514600"/>
            <a:ext cx="48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lectron transport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3200400"/>
            <a:ext cx="6019560" cy="3567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06680" y="6491160"/>
            <a:ext cx="39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©Pearson Education Inc; Publishing as Pearson Prentice H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ly animal cells have mitochond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2240" y="1600200"/>
            <a:ext cx="808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lse; both plants and animals ha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itochond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9400" y="3635280"/>
            <a:ext cx="785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carbons are in a gluc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lecu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105520"/>
            <a:ext cx="8077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6; C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the chemical equation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coholic fer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yruvic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+ NADH  →  alcohol + 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+  NAD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6760" y="3352680"/>
            <a:ext cx="746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llular respiration begins with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thway called 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9625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lyco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281952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will the citric acid that is produced here go nex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happen to the C’s in citric acid that came from Acetyl-Co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1920" y="4038480"/>
            <a:ext cx="74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ycle through the 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17242"/>
          <a:stretch/>
        </p:blipFill>
        <p:spPr>
          <a:xfrm>
            <a:off x="228600" y="304920"/>
            <a:ext cx="8334360" cy="2286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50320" y="6046920"/>
            <a:ext cx="7467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leased into atmosphere as C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6858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glycolysis, what determines which pathway pyruvic acid will fol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6560" y="2438280"/>
            <a:ext cx="67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esence or absence of oxy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3360" y="3635280"/>
            <a:ext cx="79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two kinds of fer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45720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Lactic acid and alcoho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ycolysis releases a great deal of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2880" y="1676520"/>
            <a:ext cx="886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lse; only a net of 2 ATP and 2 NAD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6680" y="3505320"/>
            <a:ext cx="888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3 carbon molecule produced du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lycolysis is 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4191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Pyruv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6858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can’t the energy in gluc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 released in just one ste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828800"/>
            <a:ext cx="84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o much at once; most of the ener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uld be lost as light and h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7240" y="3635280"/>
            <a:ext cx="749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does glycolysis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572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n the cytoplasm outside the mitochond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many ATP’s must be added to get glycolysis star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40800" y="1981080"/>
            <a:ext cx="19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2 ATP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3657600"/>
            <a:ext cx="822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 can glycolysis supply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cells when oxygen is not avail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lycolysis does NOT require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26665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which of these organisms would you expect to find cellular respiration happen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4520" y="4876920"/>
            <a:ext cx="792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of them; all living things need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ke ATP for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1485720" cy="1685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62520" y="5335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04920" y="609480"/>
            <a:ext cx="213336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1085760" cy="1625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rcRect l="0" t="47996" r="50005" b="0"/>
          <a:stretch/>
        </p:blipFill>
        <p:spPr>
          <a:xfrm>
            <a:off x="7315200" y="457200"/>
            <a:ext cx="147312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3320" y="1981080"/>
            <a:ext cx="81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               green plants        Fungi                   humans            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7520" y="6248520"/>
            <a:ext cx="507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ag.ansc.purdue.edu/sheep/ansc442/Semprojs/2003/spiderlamb/eatsheep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many ATP’s are produ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uring glyco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00" y="1676520"/>
            <a:ext cx="759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4 ATP’s are produced, but it to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2 ATP’s to get started so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t of 2 ATP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9600" y="3886200"/>
            <a:ext cx="8559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problem does a cell have when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rates large amounts of ATP us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ly glyco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6674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nce all the available NAD</a:t>
            </a: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+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arriers are filled up &amp; glycolysis will s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molecule is regenerated during fermentation that allows cells to continue to make ATP using glycolysis when oxygen is 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65040" y="2666880"/>
            <a:ext cx="144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AD</a:t>
            </a:r>
            <a:r>
              <a:rPr b="1" lang="en-US" sz="4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840" y="3581280"/>
            <a:ext cx="794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3 pathways that make 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llular respiration in o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495288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lyco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lectron transport 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l its lo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Krebs cycle happens = 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is the Electron Transport Chai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nd = 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ons accumulat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electron transport = 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 where glyco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ppens= 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8560" y="10666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30640" y="38862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2666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8840" y="5715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54680" y="0"/>
            <a:ext cx="394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  <a:ea typeface="Arial"/>
              </a:rPr>
              <a:t>©</a:t>
            </a: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Pearson Education Inc; Publishing as Pearson Prentice Hall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19840" y="3048120"/>
            <a:ext cx="41241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 of fermentation used to make yogurt, cheese, saurkraut, kimchi, buttermilk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51160" y="2286000"/>
            <a:ext cx="551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actic acid fer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3640" y="3048120"/>
            <a:ext cx="83768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energy produced by electr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ssing down the Electron Trans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in are used to move which 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o the intermembrane space?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54864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+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ons are pumped from the matrix and accumulate in the intermembrane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parts of cellular respiration require oxy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3280" y="1752480"/>
            <a:ext cx="874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rebs cycle &amp; Electron transport 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080" y="3733920"/>
            <a:ext cx="75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 is the Krebs cycle also cal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itric acid cy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2578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itric acid is the first compound for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during the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kind of fermentation p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ir holes in b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5880" y="2209680"/>
            <a:ext cx="752328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coholic fermentation rele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ubbles which pop and lea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les in the b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280" y="4495680"/>
            <a:ext cx="814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final electron accep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 the end of the Electron Trans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58672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alcoholic fermentation is what makes bread rise, why don’t we get intoxicated from eating the bre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9000" y="2209680"/>
            <a:ext cx="77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cohol evaporates during c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2200" y="4162320"/>
            <a:ext cx="827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uring short term exercise cells are us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pathway to provide ener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ctic acid fermentation        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216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lactic acid fer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ed when pyruvic acid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ken dow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9800" y="2590920"/>
            <a:ext cx="736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is released into the 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9400" y="3635280"/>
            <a:ext cx="825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energy tally fr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molecule of pyruvic acid during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rebs cy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486400"/>
            <a:ext cx="8077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 NADH, 1FAD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, and 1 A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60080" y="4019400"/>
            <a:ext cx="709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is the intermembrane sp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this dia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ion is moving acros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mbrane at the purple arrow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83440" y="4724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10640" cy="4005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178760" y="5867280"/>
            <a:ext cx="7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will the NAD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ed in th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ction go nex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oxygen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will the pyruvic acid g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 if oxygen is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80" y="3809880"/>
            <a:ext cx="614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electron transport 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5943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nto mitochondria and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2778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2 carriers for high energy electrons are used during cellular respir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240" y="2209680"/>
            <a:ext cx="4833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ADH   and   FAD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360" y="3581280"/>
            <a:ext cx="876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organelle where glucose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rned and the energy is stored as A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53341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ly about 38% of the energy in glucose is recovered during cellular respiration, what happens to the r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2057400"/>
            <a:ext cx="81532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leased as heat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doesn’t sound that good, but that’s more efficient than the typical car engine is at burning gaso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5080" y="3886200"/>
            <a:ext cx="8530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ovement of which ion acr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inner mitochondrial membr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uses ATP synthase to spin and m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5867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37426" r="0" b="0"/>
          <a:stretch/>
        </p:blipFill>
        <p:spPr>
          <a:xfrm>
            <a:off x="3114720" y="228600"/>
            <a:ext cx="6029280" cy="4376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600" y="228600"/>
            <a:ext cx="350604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e go n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40" y="2819520"/>
            <a:ext cx="395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leased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79440" y="301680"/>
            <a:ext cx="6543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ctions that happe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thout oxygen are cal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Calorie = ________ cal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79040" y="1523880"/>
            <a:ext cx="229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erob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05680" y="34290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orage form of glucose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 cells that supplies long te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ergy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880" y="2590920"/>
            <a:ext cx="20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lyco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0920" y="419112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molecule do cells bur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ergy once glucose and glycog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used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5638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f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es the Krebs cycle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31160" y="1447920"/>
            <a:ext cx="496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itochondrial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35053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is the Electron Transport Chain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51055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nner mitochondrial membra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crista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9600" y="3352680"/>
            <a:ext cx="455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 produc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f the 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6920" y="5334120"/>
            <a:ext cx="542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 NADH, FAD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 A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4196" t="42628" r="0" b="0"/>
          <a:stretch/>
        </p:blipFill>
        <p:spPr>
          <a:xfrm>
            <a:off x="2971800" y="152280"/>
            <a:ext cx="58770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enzyme helper molec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cts with pyruvic acid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Acetyl-Co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11240" y="2438280"/>
            <a:ext cx="530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enzyme A  OR   C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350532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which side of the membrane is ATP produced during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tron Transport Chain rea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28800" y="55627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itochondrial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09120" y="380520"/>
            <a:ext cx="8153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pyruvic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uring the Krebs cy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4160" y="1905120"/>
            <a:ext cx="833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is broken down into carbon di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a series of ste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7680" y="3581280"/>
            <a:ext cx="744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cause fermentation does N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quire oxygen it is said to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4876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naerob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arathon runner needing energy for an EXTENDED PERIOD of time is getting his/her ATP from 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lactic acid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alcoholic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cellular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4280" y="3962520"/>
            <a:ext cx="50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- cellular 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thlete needing a QUICK BURST of energy for a 50 yard dash is getting his/her ATP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cellular respir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alcoholic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lactic acid fer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6080" y="3962520"/>
            <a:ext cx="59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- lactic acid fer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7040" y="0"/>
            <a:ext cx="8886960" cy="556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6880" y="480060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molecule acts as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st electron acceptor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 wa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63800" y="3581280"/>
            <a:ext cx="7383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rcRect l="0" t="37426" r="0" b="0"/>
          <a:stretch/>
        </p:blipFill>
        <p:spPr>
          <a:xfrm>
            <a:off x="3114720" y="228600"/>
            <a:ext cx="6029280" cy="43768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040" y="228600"/>
            <a:ext cx="7704720" cy="56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AD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e go n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es the ATP produc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e 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" y="2819520"/>
            <a:ext cx="387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o the Electr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ransport 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20960" y="5257800"/>
            <a:ext cx="386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Used by cell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ellular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many carbons are 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molecule of citric ac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30440" y="1828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6600" y="3429000"/>
            <a:ext cx="8684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uring long term exercise, like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athon race or a soccer game, wh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thway is used by your muscles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 AT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55627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ellular respi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ause the Krebs cycle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n Transport Chain REQU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ygen, they are said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9000" y="2590920"/>
            <a:ext cx="17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erob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880" y="3733920"/>
            <a:ext cx="895284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happens to the NADH and FAD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duced during cellular respi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486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ir electrons enter the Electron Transport 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6960" cy="5562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7240" y="4876920"/>
            <a:ext cx="780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ion is being pumped a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embrane at the purple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ring electron transpor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082880" y="152280"/>
            <a:ext cx="6890760" cy="4013280"/>
            <a:chOff x="1082880" y="152280"/>
            <a:chExt cx="6890760" cy="4013280"/>
          </a:xfrm>
        </p:grpSpPr>
        <p:sp>
          <p:nvSpPr>
            <p:cNvPr id="215" name=""/>
            <p:cNvSpPr/>
            <p:nvPr/>
          </p:nvSpPr>
          <p:spPr>
            <a:xfrm>
              <a:off x="1082880" y="533160"/>
              <a:ext cx="71856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4000" spc="-1" strike="noStrike" baseline="30000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78160" y="380880"/>
              <a:ext cx="71856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4000" spc="-1" strike="noStrike" baseline="30000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97480" y="152280"/>
              <a:ext cx="71856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4000" spc="-1" strike="noStrike" baseline="30000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55080" y="3462120"/>
              <a:ext cx="71856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4000" spc="-1" strike="noStrike" baseline="30000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NADH carrier produces ___ A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om electron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9960" y="380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2895480"/>
            <a:ext cx="838692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 does 1 molecule of FAD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produce only 2 ATP during electron tran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5029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t comes in farther down the electron transport chain than NAD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381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does the Electron Transport Chain get the high energy electrons that are passed down the ch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94720" y="1981080"/>
            <a:ext cx="5665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om NADH and FAD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5200" y="3124080"/>
            <a:ext cx="827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does the location of the Elect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nsport Chain differ in eu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prokaryo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5057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 eukaryotes it is in the inner mitochondrial membrane; in bacteria the chain is in the cell membrane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emember. . .no membrane bound organelles in bacter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lactic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ed during intense exerci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6440" y="2743200"/>
            <a:ext cx="644904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t is broken down later wh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xygen is avail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9760" y="4267080"/>
            <a:ext cx="809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ter glucose &amp; glycogen stores 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d up, cells start to burn 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energ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4876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F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reactants of cellular 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06360" y="1828800"/>
            <a:ext cx="5587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and glucose (C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080" y="3733920"/>
            <a:ext cx="772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products formed during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5334120"/>
            <a:ext cx="8305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0, carbon dioxide, energy (AT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the 4 products released during the 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this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73960" y="2209680"/>
            <a:ext cx="5937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, NADH, FAD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, A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48769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lyco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867280" y="2971800"/>
            <a:ext cx="2778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many carbon atoms are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molecule of gluc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20960" y="2057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2560" y="3505320"/>
            <a:ext cx="832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stage of cellular 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follows glyco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many carbons are i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yruvic acid molecu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4640" y="1828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5200" y="3276720"/>
            <a:ext cx="86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the overall equation for cellular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91120"/>
            <a:ext cx="80773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 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+ C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6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→  6 C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+  6 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 + energy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es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ction 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will the pyruvic acid g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 if oxygen is NOT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3440" y="1981080"/>
            <a:ext cx="379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cytopla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943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tays in cytoplasm and does fer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334120" y="228600"/>
            <a:ext cx="3414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5920" y="4114800"/>
            <a:ext cx="819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is the matrix in this diagr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red molecule is the diagram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82720" y="4724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010640" cy="4005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42040" y="5867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TP synt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800" y="304920"/>
            <a:ext cx="8750160" cy="50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other name for the inner membra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a mitochondrion is the 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happens to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produced in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49960" y="99072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ist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7000" y="5181480"/>
            <a:ext cx="703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leased i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tmosphere when we exh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2619360" cy="34480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319520" y="6400800"/>
            <a:ext cx="157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DIAGRAM BY RIED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the path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ons and oxygen form water 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tic acid is formed in muscles 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lucose molecule is broken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 2 pyruvic acid molecules  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ons build up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mbrane space  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tric acid is broken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series of steps into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27400" y="60948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26668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15238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ctic acid fer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0360" y="408924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05160" y="5384880"/>
            <a:ext cx="22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the path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ohol and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produc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yruvic ac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 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tyl Co-A joins a 4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ule to make citric acid 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ons pass from the inter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ce into the matrix to make ATP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gen acts as the l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 acceptor and makes water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1400" y="106668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lcoholic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1960" y="365760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2286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Krebs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84600" y="487692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will the NAD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ed in th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ction go nex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oxygen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will the pyruvic acid g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 if oxygen is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80" y="3809880"/>
            <a:ext cx="614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electron transport 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5943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nto mitochondria and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2778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es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ction 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will the pyruvic acid g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 if oxygen is NOT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3440" y="1981080"/>
            <a:ext cx="379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cytopla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5943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tays in cytoplasm and does fer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414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es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ction 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will the pyruvic acid g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 if oxygen is NOT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3440" y="1981080"/>
            <a:ext cx="379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cytopla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5943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tays in cytoplasm and does fer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414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1920" y="277920"/>
            <a:ext cx="8719560" cy="58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happens to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roduced in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etyl-CoA will join next with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carbon molecule to make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960" y="2362320"/>
            <a:ext cx="4492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leased in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tmosphere w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e exh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2600" y="548640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itr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699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9240" y="990720"/>
            <a:ext cx="5308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ppens on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rix side of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mbrane w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P synthase sp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41720" y="4648320"/>
            <a:ext cx="421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 phosph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s added to AD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o make A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21975" t="0" r="0" b="0"/>
          <a:stretch/>
        </p:blipFill>
        <p:spPr>
          <a:xfrm>
            <a:off x="4876920" y="0"/>
            <a:ext cx="46004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937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 the equation for PHOTOSYN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ow with the equation for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6 C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 6 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 + ENERGY  → 6 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 C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200" y="2743200"/>
            <a:ext cx="89773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6 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+ C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→  6 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+  6 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 +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ellular respiration is the reverse of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28954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the 6 carbon molecule formed in this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happens to the Coenzyme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dropping off its 2 carb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41360" y="3581280"/>
            <a:ext cx="263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itric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9680" y="5715000"/>
            <a:ext cx="80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cycles back and picks up 2 mo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rbons from pyruv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17242"/>
          <a:stretch/>
        </p:blipFill>
        <p:spPr>
          <a:xfrm>
            <a:off x="380880" y="304920"/>
            <a:ext cx="8334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ATP’s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each molecule of glucose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s cellular respiration all the way through the Electron transport ch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4320" y="2514600"/>
            <a:ext cx="52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36 ATP’s are produ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3760" y="3581280"/>
            <a:ext cx="732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Krebs cycle is also called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 cyc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1911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itr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7631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pathway generates the most energy from gluc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5160" y="2438280"/>
            <a:ext cx="44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ellular 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2200" y="3505320"/>
            <a:ext cx="823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stage of respiration genera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ost AT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26708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ECTRON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Glycolysis = 2 ATP(ne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Krebs cycle = 2 ATP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ectron transport chain = 32 ATP (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18:38Z</dcterms:created>
  <dc:creator>Becca Riedell</dc:creator>
  <dc:description/>
  <dc:language>en-US</dc:language>
  <cp:lastModifiedBy>Becca Riedell</cp:lastModifiedBy>
  <dcterms:modified xsi:type="dcterms:W3CDTF">2007-02-11T17:36:46Z</dcterms:modified>
  <cp:revision>22</cp:revision>
  <dc:subject/>
  <dc:title>NAME OF GAME</dc:title>
</cp:coreProperties>
</file>